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8BE-B2A4-42EF-A17C-2ABF6B14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C92-21F5-4DB7-9E5B-7262E3A3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B72-968D-4CD4-A3D2-BDEFD9C2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632-BBFB-44F4-B874-B933194A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1DFC-D4E1-4DCD-A47B-895EC138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63F3-477F-409B-9597-CA564F25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7EEE-B9D5-40D7-99C1-62B3614E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58D3-35DE-4327-9771-0D3A6F4F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5EC9-A256-4159-9091-F407366D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EA3D-E7EF-41F2-AC5F-C8B5695C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4293-E267-4C70-8997-3E8B04CF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084-ADBF-4948-85EC-0631F015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24F6-F369-4E85-8B93-CBA4FB3B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022E-24B1-46AC-9D7C-7ED08A16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871D-8D15-4ACE-B1EA-89C8B119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2BB6-3F79-49E6-BD1B-6C07570F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ECA0-1086-47D1-A566-0BDF5A87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78A-07DB-4A38-9F14-D4F9B8D3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A66-0411-4A52-95E8-49A3B327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D54-DD50-4C04-9546-C17DD798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A46-17D3-4BAA-BB4F-4E48A4BA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52E-ECDA-4C31-82C3-51BE33B9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833-08DA-415D-89EE-1BBF5E82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C7D-7A78-4267-86A8-4DADB720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5F5B-5DF5-4228-93DA-288768C2ABC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CB23-CE4B-4CFE-A99F-E384A364EA3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0066"/>
                </a:solidFill>
                <a:latin typeface="Arial"/>
              </a:rPr>
              <a:t>NÜKLEİK ASİTLER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ÜNİTE ÜRÜN DOSYASI SUNUMU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Verdana"/>
              </a:rPr>
              <a:t>MİNE HATİPOĞLU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HEDEFL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Öğrencilerin kendi bilgilerini kullanarak farklı yollarla çözüm üretmelerini sağlamak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Araştırma isteklerini ortaya çıkarmak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Sorumluluk alarak engelleri aşabileceklerinin farkına varmalarını sağlamak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İletişim ve etkileşim ile öğrenmelerini kolaylaştırmak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Yaratıcı düşünme becerilerini ortaya çıkarmak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ÖZE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4475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Verdana"/>
              </a:rPr>
              <a:t>Organizmanın bütün özelliklerini depo eden moleküller yönetici molekül olarak bilinen, nükleik asitlerdir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Verdana"/>
              </a:rPr>
              <a:t>Bu ünitede öğrencilerin genetik bilgi taşıyan canlıların üremelerin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Verdana"/>
              </a:rPr>
              <a:t>yaşamsal olayları gerçekleştirmelerini(solunum fotosentez,protei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Verdana"/>
              </a:rPr>
              <a:t>sentezi…)</a:t>
            </a:r>
            <a:r>
              <a:rPr b="0" lang="tr-TR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tr-TR" sz="2400" spc="-1" strike="noStrike">
                <a:solidFill>
                  <a:srgbClr val="eaeaea"/>
                </a:solidFill>
                <a:latin typeface="Verdana"/>
              </a:rPr>
              <a:t>sağlayan nükleik asitlerin (DNA,RNA) yapı,görev ve farklılıklarını tanımaları sağlanacaktı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41544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Öğretim Programı Tasarım Soruları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emel Soru </a:t>
            </a:r>
            <a:br>
              <a:rPr sz="2000"/>
            </a:b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Anne babamıza benzerliğimiz nereden gelmektedir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Ünite Soruları</a:t>
            </a:r>
            <a:br>
              <a:rPr sz="2000"/>
            </a:b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1)Bir canlının anne babasına benzeme oranının,diğer canlılara benzeme oranından fazla olmasının nedeni nedir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2)A,T,G,C ve C harflerini kullanarak anlamlı ve anlamsız üç harfi kaç sözcük oluşturabilirsiniz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3)Şeker hastalığının nedenlerinden birisi olan insülin yetersizliği nasıl oluşur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İçerik Soruları</a:t>
            </a:r>
            <a:br>
              <a:rPr sz="1800"/>
            </a:b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1)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DNA ile RNA arasındaki yapısal farklılıklar nelerdir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2)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DNA nın kendini eşlemesinin önemi nedir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3)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Bir türün bireylerinde DNA lar arasındaki farklılığın nedenleri ne olabilir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4)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RNA nın DNA aracılığı ile sentezlenmesinin önemini açıklayınız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tr-TR" sz="1800" spc="-1" strike="noStrike">
                <a:solidFill>
                  <a:srgbClr val="eaeaea"/>
                </a:solidFill>
                <a:latin typeface="Verdana"/>
              </a:rPr>
              <a:t>5)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Bir bireyin kardeşine olan benzerliğini nedenini açıklayınız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KAZANDIRILMAK İSTENEN 21.YÜZYIL BECERİLERİ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Yeniliğin geliştiği alanlarda yaratıcı fikirlerimle somut ve yararlı yardımlarda bulunurum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Anlamaya yönelik doğru akıl yürütmek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Problem çözmek ve soruları yanıtlamak üzere bilgiyi sınırlandırmak, çözümlemek ve birleştirmek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Ortak bir amaca ulaşabilmek için gerekli çabayı gösterecek şekilde esnek ve istekli olmak ve takım çalışması yapabilmek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İşbirliğine dayalı çalışmalar için sorumluluğu paylaşmak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Problemlerin çözümüne yönelik olarak; bilgiye yeterli ve etkili düzeyde ulaşmak, bilgiyi eleştirel ve yeterli düzeyde değerlendirmek, doğru ve yaratıcı bir şekilde kullanmak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ilgiyi araştırmak, düzenlemek, değerlendirmek ve paylaşmak üzere teknolojiyi araç olarak kullanmak, ve bilginin erişimine ve kullanımına yönelik olarak etik ve yasal konularda temel bir anlayışa sahip olmak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DEĞERLENDİRME ÖLÇÜTLER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11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Verdana"/>
              </a:rPr>
              <a:t>Ünitenin başında KWL ölçütü,ön değerlendirme testi ile öğrencilerin başlangıç bilgi düzeyleri ölçülecek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Verdana"/>
              </a:rPr>
              <a:t>Ünitenin işlenişi esnasında ara değerlendirme testleri ile öğrencilerin gelişim düzeyleri ölçülecek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Verdana"/>
              </a:rPr>
              <a:t>Ünite sonunda yapılacak kavram haritası,bulmaca, yapılandırılmış grit çalışmaları değerlendirme sınavı ile öğrencilerin kazanımları ölçülecek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4:35:08Z</dcterms:created>
  <dc:creator>samsung</dc:creator>
  <dc:description/>
  <dc:language>en-US</dc:language>
  <cp:lastModifiedBy>samsung</cp:lastModifiedBy>
  <dcterms:modified xsi:type="dcterms:W3CDTF">2010-12-17T11:28:28Z</dcterms:modified>
  <cp:revision>3</cp:revision>
  <dc:subject/>
  <dc:title>NÜKLEİK ASİTLER</dc:title>
</cp:coreProperties>
</file>